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gif" ContentType="image/gif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FF7-CCCB-4323-98EA-DD58104D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52B-8F5A-40FA-8233-B6FFB5A9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987-C115-4362-9756-5EB657EC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3B3-6F2C-4C07-91F7-066E23D8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8E8-C92D-4636-8CDC-0A69F889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5816-3582-427E-9225-0400FF33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AF2-D05A-4254-82CD-88FB886B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C76-812C-4B2F-8D1B-224A1AFC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24C-E931-4C5D-9D64-734CCCE1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CD4-96F1-4DF4-BB33-74A2029C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4A1-B6E5-438A-99E2-FF8130D9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2A5-0C45-47CD-A1CD-0F838A39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DBF7-0579-4258-AED0-602DFF74E7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92360" y="62064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珠穆朗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6922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兵马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2781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乐山大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84360" y="0"/>
            <a:ext cx="4892760" cy="6669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24720" y="3860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造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191280" cy="5324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443640" y="33336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南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95560" y="1442880"/>
            <a:ext cx="4952880" cy="3972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076720" y="404640"/>
            <a:ext cx="40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96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万平方公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537372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黄帝时代算起则约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470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04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有壮丽的山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573408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有悠久的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1773360"/>
            <a:ext cx="1657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行楷"/>
              </a:rPr>
              <a:t>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476280"/>
            <a:ext cx="705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84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，英国发动鸦片战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84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强迫清朝签订《南京条约》，割让香港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86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，英法联军攻陷北京，火烧圆明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89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，中国在甲午战争中战败，被迫签订《马关条约》，割台湾和澎湖列岛给日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9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，八国联军侵华，迫使清政府签订《辛丑条约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93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，日本关东军在沈阳制造“九一八事变”，占领东北三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937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，日军在北京西郊的卢沟桥制造“七七事变”，发动了全面侵华战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巨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895320"/>
            <a:ext cx="450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49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中华人民共和国成立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6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中国第一颗原子弹爆炸成功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66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中国第一颗装有核弹头的地地导弹飞行爆炸成功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6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中国第一颗氢弹空爆试验成功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7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中国第一颗人造卫星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东方红一号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发射成功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7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至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中国共产党第十一届中央委员会第三次全体会议在北京举行，实行改革开放的重大决策；随后，深圳、珠海、汕头、厦门成为了中国第一批经济特区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8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许海峰射落了中国奥运史上的第一枚金牌，中国实现了奥运金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的突破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9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至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邓小平南巡武昌、深圳、珠海、上海等地，发表了重要讲话，对中国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代的经济改革与社会进步起到了关键的推动作用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21080" y="901800"/>
            <a:ext cx="48592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9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香港回归祖国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99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神舟一号飞船升天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999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澳门回归祖国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神舟二号成功升天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北京申办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奥运会成功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，非典爆发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神舟三号成功升天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神舟四号成功升天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时整，神舟五号载人飞船发射成功，将中国第一名航天员送上太空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神舟六号载人飞船发射成功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，中国南方大部遭遇了百年难遇的冰雪灾害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四川省汶川发生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8.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级特大地震，全国人民齐心协力抗震救灾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北京举办第二十九届奥运会，中国取得了金牌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5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枚、奖牌总数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枚的历史最好成绩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日，神舟七号载人飞船升天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0"/>
            <a:ext cx="36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巨  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3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155736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屹立东方的中华人民共和国建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年的日子。值得我们骄傲的是在过去日子中。中国，这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人口的国家，在各个方面取得了非比寻常的进步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可谓弹指一挥间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的中国经历让我触摸到了社会前进的脉搏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的建国改革惠及了每一个国人的生活。 国家经济在六十年间飞速发展，我们的生活和学习条件也在这六十年间发生着巨大的变化，衣食住行和生活环境、学习条件哪一样都是翻天覆地。今天就让我们一起满怀深情祝福伟大的母亲——中国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556000" y="1700280"/>
            <a:ext cx="446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歌唱祖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179280" y="2997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华人民共和国国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299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4149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27640" y="4076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爱北京天安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唱祖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3640" y="58770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国，中国鲜红的太阳永不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593720"/>
            <a:ext cx="9144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齐唱《中华人民共和国国歌》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起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愿做奴隶的人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我们的血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筑成我们新的长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华民族到了最危险的时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个人被迫着发出最后的吼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起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起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起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万众一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冒着敌人的炮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冒着敌人的炮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59636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3302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556000" y="1700280"/>
            <a:ext cx="446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歌唱祖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179280" y="2997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华人民共和国国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3640" y="299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149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4076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爱北京天安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唱祖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3640" y="58770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国，中国鲜红的太阳永不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8224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556000" y="1700280"/>
            <a:ext cx="446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歌唱祖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179280" y="2997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华人民共和国国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299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4149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4076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爱北京天安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唱祖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3640" y="58770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国，中国鲜红的太阳永不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76364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5124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556000" y="1700280"/>
            <a:ext cx="446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歌唱祖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179280" y="2997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华人民共和国国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299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149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4076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爱北京天安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唱祖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3640" y="58770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国，中国鲜红的太阳永不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236000" y="4292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6128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556000" y="1700280"/>
            <a:ext cx="446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歌唱祖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179280" y="2997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华人民共和国国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299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4149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4076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爱北京天安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唱祖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58770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国，中国鲜红的太阳永不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05928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21279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556000" y="1700280"/>
            <a:ext cx="446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歌唱祖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179280" y="2997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华人民共和国国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299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4149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4076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爱北京天安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歌唱祖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3640" y="58770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国，中国鲜红的太阳永不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34025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050920" y="2492280"/>
            <a:ext cx="5329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描绘祖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3002040"/>
            <a:ext cx="8748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祖国在我心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爬满甲骨文的钟鼎之上，读祖国童年的灵性；在布满烽火的长城之上，读祖国青春的豪放；在缀满诗歌与科学的大地之上，读祖国壮年的成熟…… 我想说又不愿说，我也曾看到祖国的孱弱，在圆明园烧焦的废墟之上，我看祖国是一滩血；在邓世昌勇猛的“致远舰”上，我看祖国是一团火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但我的祖国没有沉没，在亚细亚的东部，用宽厚的臂膀，挽起高山大海，将炎黄子孙揽于怀中，用茅草和土砖修复残缺的岁月，用野菜和稀粥喂养饥饿的生活。中山先生，在黑夜里开始规划治国方略，毛泽东，在贫瘠的土地上，支撑民族的血肉与骨骼；邓小平，把饱经沧桑的瞳仁放大，指引多灾多难的祖国，从世纪的风雨中神奇地走过！ 沿着黄河与长江的源头，漂流而下，过壶口，闯关东，走三峡，奔大海。在河西走廊，华北平原，我看祖国的富饶与辽阔，看祖国千里马般日夜兼程的超越；在长江三角洲、珠江三角洲，看祖国崇高与巍峨，看祖国繁荣的霓虹灯日夜闪烁，灿若银河…… 给我肤色的祖国，给我智慧与胆略的祖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尽管在乡村，还有辍学孩子渴望的目光；尽管在城镇，还有下岗女工无奈地诉说，但我知道，更有改革的浪潮迭起，冲破旧的观念，旧体制的束缚，迎来新世纪磅礴的日出！ 这是一个除旧立新的祖国。这是一个沸腾上升的祖国；这是一个如日中天的祖国。我的话语多得成一部历史，我的话语多得可组成一片星河，但是说得最多最动情的一句，便是——腾飞吧祖国、祖国吉祥，吉祥祖国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1584360" cy="1187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979640" y="404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范文</a:t>
            </a: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84360" cy="1187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19280" y="62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范文</a:t>
            </a: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20640"/>
            <a:ext cx="8569440" cy="16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热爱祖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在“中学生守则”中，第一条便是“热爱祖国、热爱人民、热爱中国共产党”。一提起是人人会说，可“热爱祖国”终归是一句空话，它又具体表现在哪里呢？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记得那就是不久前的一节音乐课，杨老师与我们谈了有关“人的涵养”的问题。杨老师问了我们这么一个问题：“说起来人人都会热爱祖国，但热爱祖国表现在哪里呢？”大家你望望我，我望望你，一下子说不出话来。是呀，嘴巴上说说谁不会？可我们到底该拿什么爱国？又该怎么爱国呢？现在，请你也来想一想这个问题。终于有同学举手了：“爱国就是我们现在要好好学习，长大以后为建设祖国作贡献。”其实，这说得挺完整不是吗？老是这么说过，爸爸妈妈也这么说过。杨老师点了点头：“你说得没错，但好好学习又表现在哪里？”“上课认真听讲。”“认真完成作业。”同学们也纷纷举起了手。最后，杨老师意味深长的笑了笑：“其实就是在升旗仪式上肃立，不说话呀。”同学们这才恍然大悟。原来就在那个星期一，我们班的同学们在升旗仪式上窃窃私语，被杨老师给发现了哩！ 是呀，热爱祖国不就表现在这里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常在报纸上看到，中国的游客在外国乱扔垃圾之类的报道，每当这时，我总会感到十分羞愧。这些人，他们是在为自己的祖国抹黑，他们在这么做的时候，心中有自己的祖国吗？他们又“爱国”吗？ “热爱祖国”这不只是一个空空的词，它象征着中华民族文化的源远流长，它象征着中华民族在困境中的不屈与呐喊，我们并不能像那些勇敢的战士一样，用自己的生命在战场上诠释“热爱祖国”最深切的含义，但我们可以从一举一动中改变自己。遵守公共秩序，在公共场所不拥挤，不喧哗，这，是爱国；爱护公物，不在桌椅上乱涂乱画，这，也是爱国。祖国就在我们每个人的心中，也许平时没有刻意关注过，但对祖国的热爱无疑就像一种规则，它无时无刻不约束着我们的一举一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现在你一定知道了，爱国就是在我们所作的一点一滴中体现的，无论何时，无论何地，我们都应该把祖国放在自己的心中，做一个合格的小公民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124000" y="2637000"/>
            <a:ext cx="483876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走近祖国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1584360" cy="1187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979640" y="404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范文</a:t>
            </a: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92280"/>
            <a:ext cx="885816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给祖国妈妈的一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，我伟大的祖国妈妈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您好！ 值此您六十周岁诞辰之日，作为您的儿女，我要给您送去我最诚挚的问候和对您最衷心的祝贺。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虽有冰灾，火车相撞，地震这些天灾人祸接连发生，但是您的儿女们面对灾难，万众一心，团结在一起。您放心吧，因为我们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亿兄弟姐妹的力量，我们不怕一切困难和灾难，我们一起努力……努力。再大的风雨我们也会用热情将乌云驱散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也是好事连连的一年。奥运会的举办圆满成功，您的儿女们取得了金牌第一的好成绩，惊叹了全世界；他们顽强拼搏的精神创造了一个又一个的奇迹，每一场精彩的赛事都感动了全世界。还有中国载人航天飞船神舟七号在酒泉发射中心发射成功，开始了我国航天进程中太空行走计划，又震撼了全世界。也代表着您的强大和兴旺发达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妈妈，我为你骄傲，我为你自豪，我在您的温暖怀抱里幸福的成长。您是伟大的，您为我们创造了美好的生活，我要好好读书，长大了回报您。 祝福您： 繁荣兴旺！ 国泰民安！ 和谐统一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您的儿子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79280" y="1700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作业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2852640"/>
            <a:ext cx="763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请同学们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收看国庆大典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利用国庆假期查阅资料，了解中国历史发展和今天取得的辉煌成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完成一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左右的文章，文体不限，题目自拟，表达自己对祖国的祝福之情或者歌颂祖国的日新月异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492360" y="1484280"/>
            <a:ext cx="199404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376344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光辉岁月弹指挥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中华大地沧桑巨变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我们伟大的祖国迎来了她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生日。建国六十周年中国一步步走向繁荣昌盛，华夏儿女们安居乐业。 建国六十周年我们的祖国日新月异！建国六十周年华夏儿女创造了无数奇迹，让世界人民对我们中国人民刮目相看！我相信，我们中国只是一头刚醒的雄狮，他前程似锦，一定能创造一个又一个辉煌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祝愿伟大的祖国繁荣富强，祝愿全国各族人民幸福安康。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2411280" cy="981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836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故 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87280" y="907920"/>
            <a:ext cx="29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长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6920" y="549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长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03640" y="119700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桂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76360" y="333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黄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71640" y="62064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泰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45:57Z</dcterms:modified>
  <cp:revision>12</cp:revision>
  <dc:subject>主题班会课件(分28大类): http://shop62905894.taobao.com</dc:subject>
  <dc:title>主题班会课件(分28大类): http://shop62905894.taobao.com</dc:title>
</cp:coreProperties>
</file>